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6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4936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nergie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100" idx="3"/>
            <a:endCxn id="101" idx="1"/>
          </p:cNvCxnSpPr>
          <p:nvPr/>
        </p:nvCxnSpPr>
        <p:spPr>
          <a:xfrm flipV="1">
            <a:off x="3313080" y="3405960"/>
            <a:ext cx="2699280" cy="6764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0" idx="3"/>
            <a:endCxn id="98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eto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etoazid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84160" y="5493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eto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58760" y="54936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eto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nergie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alorien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über den 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9" idx="3"/>
            <a:endCxn id="16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tein-losing-Enteropath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59480" y="549360"/>
            <a:ext cx="641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eto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nergie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alorien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über 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4" idx="3"/>
            <a:endCxn id="16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teinur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lukosur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toffwechsel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„jemand frisst mit“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9" idx="3"/>
            <a:endCxn id="17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3" name=""/>
          <p:cNvCxnSpPr>
            <a:stCxn id="169" idx="3"/>
            <a:endCxn id="17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1020600" y="549360"/>
            <a:ext cx="52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eto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nergie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alorien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offwechsel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hysi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6" idx="3"/>
            <a:endCxn id="17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80" name=""/>
          <p:cNvCxnSpPr>
            <a:stCxn id="176" idx="3"/>
            <a:endCxn id="17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1077480" y="549360"/>
            <a:ext cx="69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eto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nergie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Kalorienverbrauch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Stoffwechsel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ysi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77120" y="549360"/>
            <a:ext cx="71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eto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nergie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alorienverbrauch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offwechsel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hysiolog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3" idx="3"/>
            <a:endCxn id="18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elastung ↑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aktatio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9" idx="3"/>
            <a:endCxn id="190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thyre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77120" y="549360"/>
            <a:ext cx="71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eto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nergie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alorienverbrauch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toffwechsel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influss von Horm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emand frisst mit“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3" idx="3"/>
            <a:endCxn id="195" idx="1"/>
          </p:cNvCxnSpPr>
          <p:nvPr/>
        </p:nvCxnSpPr>
        <p:spPr>
          <a:xfrm flipV="1">
            <a:off x="3313080" y="2731680"/>
            <a:ext cx="2689920" cy="13500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6" name=""/>
          <p:cNvCxnSpPr>
            <a:stCxn id="193" idx="3"/>
            <a:endCxn id="19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8" name=""/>
          <p:cNvCxnSpPr>
            <a:stCxn id="193" idx="3"/>
            <a:endCxn id="199" idx="1"/>
          </p:cNvCxnSpPr>
          <p:nvPr/>
        </p:nvCxnSpPr>
        <p:spPr>
          <a:xfrm>
            <a:off x="3313080" y="4080960"/>
            <a:ext cx="2689920" cy="1351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asitenbe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0840" y="549360"/>
            <a:ext cx="73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eto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nergie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Kalorienverbrauch ↑ &gt; „jemand frisst mit“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2000" y="216864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2000" y="486900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ächt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asitenbe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5560" y="549360"/>
            <a:ext cx="81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eto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Energiemangel &gt; Kalorienverbrauch ↑ &gt; „jemand frisst mit“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arasitenbe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2" idx="3"/>
            <a:endCxn id="20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rofilar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agen-Darm-Würm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ktoparasit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ergie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3"/>
            <a:endCxn id="107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8" name=""/>
          <p:cNvCxnSpPr>
            <a:stCxn id="105" idx="3"/>
            <a:endCxn id="10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alorien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5" idx="3"/>
            <a:endCxn id="110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alorien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36360" y="54936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eto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nergie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n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lassimil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oriengehalt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utters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4" idx="3"/>
            <a:endCxn id="11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8" name=""/>
          <p:cNvCxnSpPr>
            <a:stCxn id="114" idx="3"/>
            <a:endCxn id="11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1008000" y="549360"/>
            <a:ext cx="52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eto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nergie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Kalorien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assim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1" idx="3"/>
            <a:endCxn id="12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5" name=""/>
          <p:cNvCxnSpPr>
            <a:stCxn id="121" idx="3"/>
            <a:endCxn id="12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1079280" y="5493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eto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nergie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alorienaufnahme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alassim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8" idx="3"/>
            <a:endCxn id="130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1" name=""/>
          <p:cNvCxnSpPr>
            <a:stCxn id="128" idx="3"/>
            <a:endCxn id="132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okri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kreas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llensäure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ch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ole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78920" y="549360"/>
            <a:ext cx="72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eto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nergie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alorienaufnahme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alassimil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6" idx="3"/>
            <a:endCxn id="13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78920" y="549360"/>
            <a:ext cx="72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eto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nergie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alorienaufnahme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alassimil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3"/>
            <a:endCxn id="142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3" name=""/>
          <p:cNvCxnSpPr>
            <a:stCxn id="140" idx="3"/>
            <a:endCxn id="144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parasi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78920" y="549360"/>
            <a:ext cx="72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eto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nergie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alorienaufnahme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alassimil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alabsorp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chädigung der 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gehalt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tters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06920" y="549360"/>
            <a:ext cx="75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eto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nergie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alorienaufnahme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aloriengehalt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tters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7" idx="3"/>
            <a:endCxn id="15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Fut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ür andere Spezie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Futter fü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dere Altersstufe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istungsgrupp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vegane Fütterung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orie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über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ar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über d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2" idx="3"/>
            <a:endCxn id="15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6" name=""/>
          <p:cNvCxnSpPr>
            <a:stCxn id="152" idx="3"/>
            <a:endCxn id="15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1013760" y="549360"/>
            <a:ext cx="47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etonur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nergie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Kalorien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Gregor und Steffi</cp:lastModifiedBy>
  <cp:lastPrinted>1999-05-13T12:26:48Z</cp:lastPrinted>
  <dcterms:modified xsi:type="dcterms:W3CDTF">2008-10-17T17:02:46Z</dcterms:modified>
  <cp:revision>327</cp:revision>
  <dc:subject/>
  <dc:title>Vorstellung einer Neuheit</dc:title>
</cp:coreProperties>
</file>